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0F1-67F9-4E95-B747-FAC364CB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DD5-47E0-4851-9006-5DE37B50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0E3-49C0-477D-AA27-50580C9F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E23-717A-4233-AD95-03D78999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5DF-2040-417E-ADE7-879A9B33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B97-EB31-4998-B381-271D6D14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9C8-C594-41B1-AB1B-29FE9258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BE0-F1DE-433C-BDD2-3AA795BB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8C8-2880-45E6-A382-CA6AA543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88C-2B49-4CE3-A31A-285FC4B4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460-C1B2-413D-92F6-E0BA3526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FE1-61B3-4471-AF1C-3253E37B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F99E-23A0-4B69-9217-FDCFD7F49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31920" y="64911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2FS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lesson presents an introduction to and overview of the Electronic Military Personnel Office (eMILP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8390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23960" y="1042920"/>
          <a:ext cx="7734240" cy="47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042920"/>
                    <a:ext cx="7734240" cy="47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209680" y="228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ition to eMILP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84040" y="760320"/>
          <a:ext cx="8763120" cy="54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760320"/>
                    <a:ext cx="87631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1680" y="457200"/>
            <a:ext cx="30492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5410080"/>
            <a:ext cx="304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-19080" y="5477040"/>
            <a:ext cx="669960" cy="84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477120" y="380880"/>
            <a:ext cx="259056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6477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763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eMILPO Fits I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9480" y="0"/>
          <a:ext cx="77724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7724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8686800" y="6491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0480" y="762120"/>
          <a:ext cx="89913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762120"/>
                    <a:ext cx="89913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8763120" y="6491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19:09:02Z</dcterms:created>
  <dc:creator>AG SCHOOL</dc:creator>
  <dc:description/>
  <dc:language>en-US</dc:language>
  <cp:lastModifiedBy>Administrator</cp:lastModifiedBy>
  <dcterms:modified xsi:type="dcterms:W3CDTF">2005-07-08T17:13:56Z</dcterms:modified>
  <cp:revision>9</cp:revision>
  <dc:subject/>
  <dc:title>No Slide Title</dc:title>
</cp:coreProperties>
</file>